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DE90-2359-4615-8F18-D81EC341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E298D-0682-4260-9B2F-B49FD7C6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6FDC4-E6E1-4D0B-B4E2-6A41EE01A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56F2-6427-413C-88CD-009D6CA9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8843-4513-42C2-ACAB-2DD9031C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CF1B-467F-412F-8DF8-2D1C2B88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2060-B8FC-4293-8FF4-9DF6956A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6A31-ADF5-4E48-BF70-6CA6AC89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FFD2-5003-47BC-A5D5-A88AFF77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2B35-3B5C-4632-97A7-66979239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D73B-CB67-4076-AEDB-45772659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D916A-58C3-451F-BFED-7E4A3384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90EC-0BD4-47F9-8663-4B282996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2F1A-2C50-4808-B2DB-431B15FA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D7E6-1EF4-4707-9257-5B84BBF3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1D7F-2548-4AE0-BAF0-056ABB33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3ADB-AB0B-4009-B50F-57619512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24C2F-8BB0-4851-A4CB-E7412348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4E33-D16E-42D8-B2D5-07B9D407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C858-E67A-46B9-97D8-2C78B258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9E2F3-A31E-45AB-B3CA-1B9EA7DD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A7F3-92E1-4817-BA7A-FF654AE1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37956-D5B4-4025-9322-75C58286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37F7C-6177-4B0E-9CBA-0BFFAE19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033C-4C5E-4E78-AF95-B4F9A14AA3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37DB-94E8-418C-896E-EB6311CDED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key-Cipher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key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a small key length is a weakness of a Vigenere cipher one fix that has been used is called an autokey cip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keyw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keyword to encipher the first segment of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iphertext (or the plaintext segment which was just enciphered) as the key for the next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739D5-64FA-4A36-8B09-535E06998D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72520" y="321624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autokeycipherprovidesalong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756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77560" y="3521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1072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709640" y="3292560"/>
            <a:ext cx="152640" cy="3808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0720" y="3521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Courier New"/>
              </a:rPr>
              <a:t>w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4424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Courier New"/>
              </a:rPr>
              <a:t>w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166840" y="3368160"/>
            <a:ext cx="228600" cy="304920"/>
          </a:xfrm>
          <a:prstGeom prst="line">
            <a:avLst/>
          </a:prstGeom>
          <a:ln w="9360">
            <a:solidFill>
              <a:srgbClr val="99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96960" y="549576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 will implement this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03763-0FB6-4827-93B7-D703E63CE0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3T04:10:17Z</dcterms:modified>
  <cp:revision>59</cp:revision>
  <dc:subject/>
  <dc:title>CAP Cryptographic Analysis Program</dc:title>
</cp:coreProperties>
</file>